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.wav" ContentType="audio/x-wav"/>
  <Override PartName="/ppt/media/end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C0A-6A1A-4595-80E7-09079859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3A2-F8CF-47E3-A842-A8406027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2E5-A165-4967-82B8-769132A2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443-6CE8-42BC-93DF-89A80EBE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D39-7B88-408C-9239-75D2A06C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94D-0152-438A-B96B-D52B1AA9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88C-6CDE-4618-B259-50AAF8E0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A81-9507-4868-975E-A04D2BEB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321-520A-4946-8DC0-407EE56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889-40D6-40A8-BF52-4D59EF5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4C5-2146-4166-85E4-BC2D9BA8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105-94AE-4D60-9CA7-810FC389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CF60-9389-4351-BD61-D23A395A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286000"/>
            <a:ext cx="49053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erlin Sans FB Demi"/>
              </a:rPr>
              <a:t>Who Am I?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p:transition spd="slow">
    <p:wipe dir="l"/>
    <p:sndAc>
      <p:stSnd>
        <p:snd r:embed="rId1" name="wh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I enjoy playing with the cars and block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1430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I just discovered that painting is fun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8288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ff"/>
                </a:solidFill>
                <a:latin typeface="Times New Roman"/>
              </a:rPr>
              <a:t>I really like to play with the block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ff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52388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Times New Roman"/>
              </a:rPr>
              <a:t>I love to play with the play dough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43080" y="18288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I like using tools to fix thing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90512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 really like being at the art tabl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47640" y="2514600"/>
            <a:ext cx="5562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l"/>
    <p:sndAc>
      <p:stSnd>
        <p:snd r:embed="rId1" name="e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6002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I think cars and trucks are really fun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67652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Times New Roman"/>
              </a:rPr>
              <a:t>I like to ride on the sle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13372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I like to work with the tool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5:42:20Z</dcterms:created>
  <dc:creator>Patti Porto</dc:creator>
  <dc:description/>
  <dc:language>en-US</dc:language>
  <cp:lastModifiedBy>Patti Porto</cp:lastModifiedBy>
  <dcterms:modified xsi:type="dcterms:W3CDTF">2008-01-24T04:08:14Z</dcterms:modified>
  <cp:revision>31</cp:revision>
  <dc:subject/>
  <dc:title>PowerPoint Presentation</dc:title>
</cp:coreProperties>
</file>